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F5C-D850-4613-AEFE-D28AB213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4C1-FC57-400D-B5B5-B73EE903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38C-AB32-4109-A0F4-FC280AFA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8D1-447B-4DC1-B0A4-0654477B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9D2F6-D373-4623-9318-6D57F414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77217-2AA6-4C09-A4E5-53D32AE6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8CBD-5F70-4362-A0B5-5C3C7AA2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246A-C3AE-4B95-A0B1-D8DCB9DB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EB27B-9D3B-4B38-AC00-10EAC41C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50D65-BC3D-4596-A3A0-973FB9F7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98811-92F5-4E8C-8E0F-E1FE427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998-7740-4B52-AD7F-6D6A468B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B41ED-6C3C-4ADD-85CE-6A306A24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4357A-3F37-4363-93AB-64215915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EFC23-6E71-4BD7-AE12-093014C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E9423-2CD9-4251-BBC2-F89F1A26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29812-F500-4E50-A00F-08760AAC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5B6-3A64-4EFD-BF37-9D2BDDBC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084-F5E0-4673-818C-659A1334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FAC-327B-452E-B3FA-D46B48BA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485-F5FC-4B67-97BD-9B67173F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271-AAFC-46CC-83B3-A315362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276-B870-4035-BAEC-1B980B9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312-4955-424A-9B67-9AAADF29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0751-B7C5-49DF-A36C-E3884C926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9013-B4CB-4CB8-90B0-7C4A62B8D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 Joseph’s Primary Schoo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ak Hill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TLL Mid-point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62946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cus 5: Educative leader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eadership building culture and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elebrates key events and achievements as a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82692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176364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7596360" y="573408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8" h="21600">
                <a:moveTo>
                  <a:pt x="11709" y="3837"/>
                </a:moveTo>
                <a:lnTo>
                  <a:pt x="14285" y="6448"/>
                </a:lnTo>
                <a:lnTo>
                  <a:pt x="14285" y="4707"/>
                </a:lnTo>
                <a:lnTo>
                  <a:pt x="16061" y="4707"/>
                </a:lnTo>
                <a:lnTo>
                  <a:pt x="16061" y="8224"/>
                </a:lnTo>
                <a:lnTo>
                  <a:pt x="18672" y="10800"/>
                </a:lnTo>
                <a:lnTo>
                  <a:pt x="17018" y="10800"/>
                </a:lnTo>
                <a:lnTo>
                  <a:pt x="17018" y="17989"/>
                </a:lnTo>
                <a:lnTo>
                  <a:pt x="6400" y="17989"/>
                </a:lnTo>
                <a:lnTo>
                  <a:pt x="6400" y="10800"/>
                </a:lnTo>
                <a:lnTo>
                  <a:pt x="4746" y="10800"/>
                </a:lnTo>
                <a:close/>
              </a:path>
              <a:path fill="darkenLess" w="23418" h="21600">
                <a:moveTo>
                  <a:pt x="14285" y="6448"/>
                </a:moveTo>
                <a:lnTo>
                  <a:pt x="14285" y="4707"/>
                </a:lnTo>
                <a:lnTo>
                  <a:pt x="16061" y="4707"/>
                </a:lnTo>
                <a:lnTo>
                  <a:pt x="16061" y="8224"/>
                </a:lnTo>
                <a:close/>
              </a:path>
              <a:path fill="darkenLess" w="23418" h="21600">
                <a:moveTo>
                  <a:pt x="10786" y="14299"/>
                </a:moveTo>
                <a:lnTo>
                  <a:pt x="12632" y="14299"/>
                </a:lnTo>
                <a:lnTo>
                  <a:pt x="12632" y="17989"/>
                </a:lnTo>
                <a:lnTo>
                  <a:pt x="17018" y="17989"/>
                </a:lnTo>
                <a:lnTo>
                  <a:pt x="17018" y="10800"/>
                </a:lnTo>
                <a:lnTo>
                  <a:pt x="6400" y="10800"/>
                </a:lnTo>
                <a:lnTo>
                  <a:pt x="6400" y="17989"/>
                </a:lnTo>
                <a:lnTo>
                  <a:pt x="10786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940360" y="3860640"/>
            <a:ext cx="936720" cy="2232000"/>
            <a:chOff x="5940360" y="3860640"/>
            <a:chExt cx="936720" cy="2232000"/>
          </a:xfrm>
        </p:grpSpPr>
        <p:grpSp>
          <p:nvGrpSpPr>
            <p:cNvPr id="163" name=""/>
            <p:cNvGrpSpPr/>
            <p:nvPr/>
          </p:nvGrpSpPr>
          <p:grpSpPr>
            <a:xfrm>
              <a:off x="5940360" y="3860640"/>
              <a:ext cx="936720" cy="2232000"/>
              <a:chOff x="5940360" y="3860640"/>
              <a:chExt cx="936720" cy="2232000"/>
            </a:xfrm>
          </p:grpSpPr>
          <p:sp>
            <p:nvSpPr>
              <p:cNvPr id="164" name=""/>
              <p:cNvSpPr/>
              <p:nvPr/>
            </p:nvSpPr>
            <p:spPr>
              <a:xfrm>
                <a:off x="5940360" y="3860640"/>
                <a:ext cx="936720" cy="172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72000" y="5589360"/>
                <a:ext cx="73080" cy="503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229080" y="4076280"/>
                <a:ext cx="360360" cy="3589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29080" y="4581360"/>
                <a:ext cx="360360" cy="35856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29080" y="5084640"/>
                <a:ext cx="360360" cy="35856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084720" y="4437000"/>
              <a:ext cx="647640" cy="649440"/>
            </a:xfrm>
            <a:prstGeom prst="irregularSeal1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9440" y="4581360"/>
              <a:ext cx="358560" cy="36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aring school community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tending community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lude community members in student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ist with home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vite parents to special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hancing literacy in compet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ent information about NAPL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teracy and Numeracy information n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pen classroo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tend local community ev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cus1: The transformed lear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nowledge in different discipli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able to make conn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ong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itical and creative thinkers and problem sol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itted to ongoing spiritual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4360" y="5734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161928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4" action="ppaction://hlinksldjump"/>
          </p:cNvPr>
          <p:cNvSpPr/>
          <p:nvPr/>
        </p:nvSpPr>
        <p:spPr>
          <a:xfrm>
            <a:off x="7885080" y="566100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13738" y="3837"/>
                </a:moveTo>
                <a:lnTo>
                  <a:pt x="16314" y="6448"/>
                </a:lnTo>
                <a:lnTo>
                  <a:pt x="16314" y="4707"/>
                </a:lnTo>
                <a:lnTo>
                  <a:pt x="18090" y="4707"/>
                </a:lnTo>
                <a:lnTo>
                  <a:pt x="18090" y="8224"/>
                </a:lnTo>
                <a:lnTo>
                  <a:pt x="20701" y="10800"/>
                </a:lnTo>
                <a:lnTo>
                  <a:pt x="19047" y="10800"/>
                </a:lnTo>
                <a:lnTo>
                  <a:pt x="19047" y="17989"/>
                </a:lnTo>
                <a:lnTo>
                  <a:pt x="8429" y="17989"/>
                </a:lnTo>
                <a:lnTo>
                  <a:pt x="8429" y="10800"/>
                </a:lnTo>
                <a:lnTo>
                  <a:pt x="6775" y="10800"/>
                </a:lnTo>
                <a:close/>
              </a:path>
              <a:path fill="darkenLess" w="27476" h="21600">
                <a:moveTo>
                  <a:pt x="16314" y="6448"/>
                </a:moveTo>
                <a:lnTo>
                  <a:pt x="16314" y="4707"/>
                </a:lnTo>
                <a:lnTo>
                  <a:pt x="18090" y="4707"/>
                </a:lnTo>
                <a:lnTo>
                  <a:pt x="18090" y="8224"/>
                </a:lnTo>
                <a:close/>
              </a:path>
              <a:path fill="darkenLess" w="27476" h="21600">
                <a:moveTo>
                  <a:pt x="12815" y="14299"/>
                </a:moveTo>
                <a:lnTo>
                  <a:pt x="14660" y="14299"/>
                </a:lnTo>
                <a:lnTo>
                  <a:pt x="14660" y="17989"/>
                </a:lnTo>
                <a:lnTo>
                  <a:pt x="19047" y="17989"/>
                </a:lnTo>
                <a:lnTo>
                  <a:pt x="19047" y="10800"/>
                </a:lnTo>
                <a:lnTo>
                  <a:pt x="8429" y="10800"/>
                </a:lnTo>
                <a:lnTo>
                  <a:pt x="8429" y="17989"/>
                </a:lnTo>
                <a:lnTo>
                  <a:pt x="12815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885080" y="2060640"/>
            <a:ext cx="936720" cy="2232000"/>
            <a:chOff x="7885080" y="2060640"/>
            <a:chExt cx="936720" cy="2232000"/>
          </a:xfrm>
        </p:grpSpPr>
        <p:grpSp>
          <p:nvGrpSpPr>
            <p:cNvPr id="183" name=""/>
            <p:cNvGrpSpPr/>
            <p:nvPr/>
          </p:nvGrpSpPr>
          <p:grpSpPr>
            <a:xfrm>
              <a:off x="7885080" y="2060640"/>
              <a:ext cx="936720" cy="2232000"/>
              <a:chOff x="7885080" y="2060640"/>
              <a:chExt cx="936720" cy="2232000"/>
            </a:xfrm>
          </p:grpSpPr>
          <p:sp>
            <p:nvSpPr>
              <p:cNvPr id="184" name=""/>
              <p:cNvSpPr/>
              <p:nvPr/>
            </p:nvSpPr>
            <p:spPr>
              <a:xfrm>
                <a:off x="7885080" y="2060640"/>
                <a:ext cx="936720" cy="172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16720" y="3789360"/>
                <a:ext cx="73080" cy="503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173800" y="2276280"/>
                <a:ext cx="360360" cy="3589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3800" y="2781360"/>
                <a:ext cx="360360" cy="35856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173800" y="3284640"/>
                <a:ext cx="360360" cy="35856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8029440" y="2637000"/>
              <a:ext cx="647640" cy="649440"/>
            </a:xfrm>
            <a:prstGeom prst="irregularSeal1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74160" y="2781360"/>
              <a:ext cx="358560" cy="36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elop critical think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courage children to be inquisitive by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elop stronger links between the school and paris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7956720" y="573408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8" h="21600">
                <a:moveTo>
                  <a:pt x="4703" y="10800"/>
                </a:moveTo>
                <a:lnTo>
                  <a:pt x="18715" y="3794"/>
                </a:lnTo>
                <a:lnTo>
                  <a:pt x="1871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CT Teacher to develop children’s computer ski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irculating the school newsle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mily, class and school ma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lude parishioners in school event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7956720" y="573408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8" h="21600">
                <a:moveTo>
                  <a:pt x="4703" y="10800"/>
                </a:moveTo>
                <a:lnTo>
                  <a:pt x="18715" y="3794"/>
                </a:lnTo>
                <a:lnTo>
                  <a:pt x="1871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cus 6: Authentic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Organising for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s technology to support teac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cates resources with a prior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755640" y="580536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1692360" y="580536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rId4" action="ppaction://hlinksldjump"/>
          </p:cNvPr>
          <p:cNvSpPr/>
          <p:nvPr/>
        </p:nvSpPr>
        <p:spPr>
          <a:xfrm>
            <a:off x="8028000" y="5516640"/>
            <a:ext cx="865080" cy="936720"/>
          </a:xfrm>
          <a:custGeom>
            <a:avLst/>
            <a:gdLst>
              <a:gd name="textAreaLeft" fmla="*/ 55800 w 865080"/>
              <a:gd name="textAreaRight" fmla="*/ 809280 w 865080"/>
              <a:gd name="textAreaTop" fmla="*/ 55800 h 936720"/>
              <a:gd name="textAreaBottom" fmla="*/ 880920 h 936720"/>
            </a:gdLst>
            <a:ahLst/>
            <a:rect l="textAreaLeft" t="textAreaTop" r="textAreaRight" b="textAreaBottom"/>
            <a:pathLst>
              <a:path w="21600" h="23388">
                <a:moveTo>
                  <a:pt x="0" y="0"/>
                </a:moveTo>
                <a:lnTo>
                  <a:pt x="21600" y="0"/>
                </a:lnTo>
                <a:lnTo>
                  <a:pt x="21600" y="23388"/>
                </a:lnTo>
                <a:lnTo>
                  <a:pt x="0" y="23388"/>
                </a:lnTo>
                <a:close/>
              </a:path>
              <a:path fill="lightenLess" w="21600" h="233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88">
                <a:moveTo>
                  <a:pt x="21600" y="0"/>
                </a:moveTo>
                <a:lnTo>
                  <a:pt x="21600" y="23388"/>
                </a:lnTo>
                <a:lnTo>
                  <a:pt x="20200" y="21988"/>
                </a:lnTo>
                <a:lnTo>
                  <a:pt x="20200" y="1400"/>
                </a:lnTo>
                <a:close/>
              </a:path>
              <a:path fill="darkenLess" w="21600" h="23388">
                <a:moveTo>
                  <a:pt x="21600" y="23388"/>
                </a:moveTo>
                <a:lnTo>
                  <a:pt x="0" y="23388"/>
                </a:lnTo>
                <a:lnTo>
                  <a:pt x="1400" y="21988"/>
                </a:lnTo>
                <a:lnTo>
                  <a:pt x="20200" y="21988"/>
                </a:lnTo>
                <a:close/>
              </a:path>
              <a:path fill="lighten" w="21600" h="23388">
                <a:moveTo>
                  <a:pt x="0" y="233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88"/>
                </a:lnTo>
                <a:close/>
              </a:path>
              <a:path fill="darken" w="21600" h="23388">
                <a:moveTo>
                  <a:pt x="10800" y="4731"/>
                </a:moveTo>
                <a:lnTo>
                  <a:pt x="13376" y="7342"/>
                </a:lnTo>
                <a:lnTo>
                  <a:pt x="13376" y="5601"/>
                </a:lnTo>
                <a:lnTo>
                  <a:pt x="15152" y="5601"/>
                </a:lnTo>
                <a:lnTo>
                  <a:pt x="15152" y="9118"/>
                </a:lnTo>
                <a:lnTo>
                  <a:pt x="17763" y="11694"/>
                </a:lnTo>
                <a:lnTo>
                  <a:pt x="16109" y="11694"/>
                </a:lnTo>
                <a:lnTo>
                  <a:pt x="16109" y="18883"/>
                </a:lnTo>
                <a:lnTo>
                  <a:pt x="5491" y="18883"/>
                </a:lnTo>
                <a:lnTo>
                  <a:pt x="5491" y="11694"/>
                </a:lnTo>
                <a:lnTo>
                  <a:pt x="3837" y="11694"/>
                </a:lnTo>
                <a:close/>
              </a:path>
              <a:path fill="darkenLess" w="21600" h="23388">
                <a:moveTo>
                  <a:pt x="13376" y="7342"/>
                </a:moveTo>
                <a:lnTo>
                  <a:pt x="13376" y="5601"/>
                </a:lnTo>
                <a:lnTo>
                  <a:pt x="15152" y="5601"/>
                </a:lnTo>
                <a:lnTo>
                  <a:pt x="15152" y="9118"/>
                </a:lnTo>
                <a:close/>
              </a:path>
              <a:path fill="darkenLess" w="21600" h="23388">
                <a:moveTo>
                  <a:pt x="9877" y="15193"/>
                </a:moveTo>
                <a:lnTo>
                  <a:pt x="11723" y="15193"/>
                </a:lnTo>
                <a:lnTo>
                  <a:pt x="11723" y="18883"/>
                </a:lnTo>
                <a:lnTo>
                  <a:pt x="16109" y="18883"/>
                </a:lnTo>
                <a:lnTo>
                  <a:pt x="16109" y="11694"/>
                </a:lnTo>
                <a:lnTo>
                  <a:pt x="5491" y="11694"/>
                </a:lnTo>
                <a:lnTo>
                  <a:pt x="5491" y="18883"/>
                </a:lnTo>
                <a:lnTo>
                  <a:pt x="9877" y="1888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956720" y="1989000"/>
            <a:ext cx="936360" cy="2232000"/>
            <a:chOff x="7956720" y="1989000"/>
            <a:chExt cx="936360" cy="2232000"/>
          </a:xfrm>
        </p:grpSpPr>
        <p:grpSp>
          <p:nvGrpSpPr>
            <p:cNvPr id="203" name=""/>
            <p:cNvGrpSpPr/>
            <p:nvPr/>
          </p:nvGrpSpPr>
          <p:grpSpPr>
            <a:xfrm>
              <a:off x="7956720" y="1989000"/>
              <a:ext cx="936360" cy="2232000"/>
              <a:chOff x="7956720" y="1989000"/>
              <a:chExt cx="936360" cy="2232000"/>
            </a:xfrm>
          </p:grpSpPr>
          <p:sp>
            <p:nvSpPr>
              <p:cNvPr id="204" name=""/>
              <p:cNvSpPr/>
              <p:nvPr/>
            </p:nvSpPr>
            <p:spPr>
              <a:xfrm>
                <a:off x="7956720" y="1989000"/>
                <a:ext cx="936360" cy="172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388000" y="3717720"/>
                <a:ext cx="72720" cy="503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45080" y="2204640"/>
                <a:ext cx="360000" cy="3589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45080" y="2709720"/>
                <a:ext cx="360000" cy="35856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245080" y="3213000"/>
                <a:ext cx="360000" cy="35856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8100720" y="2565360"/>
              <a:ext cx="647280" cy="649440"/>
            </a:xfrm>
            <a:prstGeom prst="irregularSeal1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45440" y="2709720"/>
              <a:ext cx="358200" cy="36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professional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dit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talogue school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teracy and numeracy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795672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T to audit reading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CTT to devise IT action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CTT to conduct IT les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ildren’s interests in reading surv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brary barcode system to catalogue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w SES f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795672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successful have we been at the LTLL proce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have begun to implement our action plans for each foc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ue  success will come over a period of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ised staff awareness about a whole school approach to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956720" y="5734080"/>
            <a:ext cx="863280" cy="79056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586" h="21600">
                <a:moveTo>
                  <a:pt x="0" y="0"/>
                </a:moveTo>
                <a:lnTo>
                  <a:pt x="23586" y="0"/>
                </a:lnTo>
                <a:lnTo>
                  <a:pt x="23586" y="21600"/>
                </a:lnTo>
                <a:lnTo>
                  <a:pt x="0" y="21600"/>
                </a:lnTo>
                <a:close/>
              </a:path>
              <a:path fill="lightenLess" w="23586" h="21600">
                <a:moveTo>
                  <a:pt x="0" y="0"/>
                </a:moveTo>
                <a:lnTo>
                  <a:pt x="23586" y="0"/>
                </a:lnTo>
                <a:lnTo>
                  <a:pt x="22186" y="1400"/>
                </a:lnTo>
                <a:lnTo>
                  <a:pt x="1400" y="1400"/>
                </a:lnTo>
                <a:close/>
              </a:path>
              <a:path fill="darken" w="23586" h="21600">
                <a:moveTo>
                  <a:pt x="23586" y="0"/>
                </a:moveTo>
                <a:lnTo>
                  <a:pt x="23586" y="21600"/>
                </a:lnTo>
                <a:lnTo>
                  <a:pt x="22186" y="20200"/>
                </a:lnTo>
                <a:lnTo>
                  <a:pt x="22186" y="1400"/>
                </a:lnTo>
                <a:close/>
              </a:path>
              <a:path fill="darkenLess" w="23586" h="21600">
                <a:moveTo>
                  <a:pt x="23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6" y="20200"/>
                </a:lnTo>
                <a:close/>
              </a:path>
              <a:path fill="lighten" w="23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6" h="21600">
                <a:moveTo>
                  <a:pt x="11793" y="3837"/>
                </a:moveTo>
                <a:lnTo>
                  <a:pt x="14369" y="6448"/>
                </a:lnTo>
                <a:lnTo>
                  <a:pt x="14369" y="4707"/>
                </a:lnTo>
                <a:lnTo>
                  <a:pt x="16145" y="4707"/>
                </a:lnTo>
                <a:lnTo>
                  <a:pt x="16145" y="8224"/>
                </a:lnTo>
                <a:lnTo>
                  <a:pt x="18756" y="10800"/>
                </a:lnTo>
                <a:lnTo>
                  <a:pt x="17102" y="10800"/>
                </a:lnTo>
                <a:lnTo>
                  <a:pt x="17102" y="17989"/>
                </a:lnTo>
                <a:lnTo>
                  <a:pt x="6484" y="17989"/>
                </a:lnTo>
                <a:lnTo>
                  <a:pt x="6484" y="10800"/>
                </a:lnTo>
                <a:lnTo>
                  <a:pt x="4830" y="10800"/>
                </a:lnTo>
                <a:close/>
              </a:path>
              <a:path fill="darkenLess" w="23586" h="21600">
                <a:moveTo>
                  <a:pt x="14369" y="6448"/>
                </a:moveTo>
                <a:lnTo>
                  <a:pt x="14369" y="4707"/>
                </a:lnTo>
                <a:lnTo>
                  <a:pt x="16145" y="4707"/>
                </a:lnTo>
                <a:lnTo>
                  <a:pt x="16145" y="8224"/>
                </a:lnTo>
                <a:close/>
              </a:path>
              <a:path fill="darkenLess" w="23586" h="21600">
                <a:moveTo>
                  <a:pt x="10870" y="14299"/>
                </a:moveTo>
                <a:lnTo>
                  <a:pt x="12716" y="14299"/>
                </a:lnTo>
                <a:lnTo>
                  <a:pt x="12716" y="17989"/>
                </a:lnTo>
                <a:lnTo>
                  <a:pt x="17102" y="17989"/>
                </a:lnTo>
                <a:lnTo>
                  <a:pt x="17102" y="10800"/>
                </a:lnTo>
                <a:lnTo>
                  <a:pt x="6484" y="10800"/>
                </a:lnTo>
                <a:lnTo>
                  <a:pt x="6484" y="17989"/>
                </a:lnTo>
                <a:lnTo>
                  <a:pt x="10870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did we set out to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athered information from LTLL meeting in Narrom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d the online surv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cated weakness (red and amber ligh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ised an action plan for five areas of weak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urrently working through action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suring there is continuity across all classes and stages in our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ue to being in a small school we have a limited number of teachers and time to complete our LTLL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ing links with other schools of similar sizing and staffing to discuss processes such as a data tracking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3744" y="3837"/>
                </a:moveTo>
                <a:lnTo>
                  <a:pt x="16320" y="6448"/>
                </a:ln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lnTo>
                  <a:pt x="20707" y="10800"/>
                </a:lnTo>
                <a:lnTo>
                  <a:pt x="19053" y="10800"/>
                </a:lnTo>
                <a:lnTo>
                  <a:pt x="19053" y="17989"/>
                </a:lnTo>
                <a:lnTo>
                  <a:pt x="8435" y="17989"/>
                </a:lnTo>
                <a:lnTo>
                  <a:pt x="8435" y="10800"/>
                </a:lnTo>
                <a:lnTo>
                  <a:pt x="6781" y="10800"/>
                </a:lnTo>
                <a:close/>
              </a:path>
              <a:path fill="darkenLess" w="27488" h="21600">
                <a:moveTo>
                  <a:pt x="16320" y="6448"/>
                </a:move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close/>
              </a:path>
              <a:path fill="darkenLess" w="27488" h="21600">
                <a:moveTo>
                  <a:pt x="12822" y="14299"/>
                </a:moveTo>
                <a:lnTo>
                  <a:pt x="14667" y="14299"/>
                </a:lnTo>
                <a:lnTo>
                  <a:pt x="14667" y="17989"/>
                </a:lnTo>
                <a:lnTo>
                  <a:pt x="19053" y="17989"/>
                </a:lnTo>
                <a:lnTo>
                  <a:pt x="19053" y="10800"/>
                </a:lnTo>
                <a:lnTo>
                  <a:pt x="8435" y="10800"/>
                </a:lnTo>
                <a:lnTo>
                  <a:pt x="8435" y="17989"/>
                </a:lnTo>
                <a:lnTo>
                  <a:pt x="12822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 things we have lear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are developing a stronger team work ethic by looking at our school as a whole rather than working as individu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need to put more effort into educating our parents about the processes and programs used in our classroo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rease staff and student’s skills and knowledge of technolog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7596360" y="5661000"/>
            <a:ext cx="1079280" cy="86364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6991" h="21600">
                <a:moveTo>
                  <a:pt x="0" y="0"/>
                </a:moveTo>
                <a:lnTo>
                  <a:pt x="26991" y="0"/>
                </a:lnTo>
                <a:lnTo>
                  <a:pt x="26991" y="21600"/>
                </a:lnTo>
                <a:lnTo>
                  <a:pt x="0" y="21600"/>
                </a:lnTo>
                <a:close/>
              </a:path>
              <a:path fill="lightenLess" w="26991" h="21600">
                <a:moveTo>
                  <a:pt x="0" y="0"/>
                </a:moveTo>
                <a:lnTo>
                  <a:pt x="26991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1" h="21600">
                <a:moveTo>
                  <a:pt x="26991" y="0"/>
                </a:moveTo>
                <a:lnTo>
                  <a:pt x="26991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1" h="21600">
                <a:moveTo>
                  <a:pt x="26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1" h="21600">
                <a:moveTo>
                  <a:pt x="13496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5" y="10800"/>
                </a:lnTo>
                <a:lnTo>
                  <a:pt x="18805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3" y="10800"/>
                </a:lnTo>
                <a:close/>
              </a:path>
              <a:path fill="darkenLess" w="26991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1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5" y="17989"/>
                </a:lnTo>
                <a:lnTo>
                  <a:pt x="18805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Questions we still hav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next step after the 2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Nov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there a better system of lights? (too many amber ligh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support is there on offer for small schools using LT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93280" y="367920"/>
            <a:ext cx="8108280" cy="6098040"/>
            <a:chOff x="593280" y="367920"/>
            <a:chExt cx="8108280" cy="6098040"/>
          </a:xfrm>
        </p:grpSpPr>
        <p:sp>
          <p:nvSpPr>
            <p:cNvPr id="89" name="_s68630"/>
            <p:cNvSpPr/>
            <p:nvPr/>
          </p:nvSpPr>
          <p:spPr>
            <a:xfrm flipH="1" flipV="1">
              <a:off x="3196440" y="2175120"/>
              <a:ext cx="855360" cy="77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68629"/>
            <p:cNvSpPr/>
            <p:nvPr/>
          </p:nvSpPr>
          <p:spPr>
            <a:xfrm>
              <a:off x="1681200" y="930960"/>
              <a:ext cx="185364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8628"/>
            <p:cNvSpPr/>
            <p:nvPr/>
          </p:nvSpPr>
          <p:spPr>
            <a:xfrm flipH="1" flipV="1">
              <a:off x="2424600" y="3191400"/>
              <a:ext cx="1312200" cy="17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68627"/>
            <p:cNvSpPr/>
            <p:nvPr/>
          </p:nvSpPr>
          <p:spPr>
            <a:xfrm>
              <a:off x="593280" y="236160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68640"/>
            <p:cNvSpPr/>
            <p:nvPr/>
          </p:nvSpPr>
          <p:spPr>
            <a:xfrm flipH="1">
              <a:off x="2694240" y="3840480"/>
              <a:ext cx="1151640" cy="50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8639"/>
            <p:cNvSpPr/>
            <p:nvPr/>
          </p:nvSpPr>
          <p:spPr>
            <a:xfrm>
              <a:off x="968400" y="398952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68626"/>
            <p:cNvSpPr/>
            <p:nvPr/>
          </p:nvSpPr>
          <p:spPr>
            <a:xfrm flipH="1">
              <a:off x="3876480" y="4148640"/>
              <a:ext cx="452880" cy="95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8625"/>
            <p:cNvSpPr/>
            <p:nvPr/>
          </p:nvSpPr>
          <p:spPr>
            <a:xfrm>
              <a:off x="2630880" y="505440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68624"/>
            <p:cNvSpPr/>
            <p:nvPr/>
          </p:nvSpPr>
          <p:spPr>
            <a:xfrm>
              <a:off x="4961880" y="4148640"/>
              <a:ext cx="456480" cy="94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8623"/>
            <p:cNvSpPr/>
            <p:nvPr/>
          </p:nvSpPr>
          <p:spPr>
            <a:xfrm>
              <a:off x="4804920" y="5056200"/>
              <a:ext cx="1852920" cy="1409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68622"/>
            <p:cNvSpPr/>
            <p:nvPr/>
          </p:nvSpPr>
          <p:spPr>
            <a:xfrm>
              <a:off x="5445720" y="3837600"/>
              <a:ext cx="1151640" cy="50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68621"/>
            <p:cNvSpPr/>
            <p:nvPr/>
          </p:nvSpPr>
          <p:spPr>
            <a:xfrm>
              <a:off x="6469920" y="3994200"/>
              <a:ext cx="185364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68620"/>
            <p:cNvSpPr/>
            <p:nvPr/>
          </p:nvSpPr>
          <p:spPr>
            <a:xfrm flipV="1">
              <a:off x="5554080" y="3189240"/>
              <a:ext cx="1309320" cy="17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68619"/>
            <p:cNvSpPr/>
            <p:nvPr/>
          </p:nvSpPr>
          <p:spPr>
            <a:xfrm>
              <a:off x="6848640" y="236628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68618"/>
            <p:cNvSpPr/>
            <p:nvPr/>
          </p:nvSpPr>
          <p:spPr>
            <a:xfrm flipV="1">
              <a:off x="5236560" y="2175120"/>
              <a:ext cx="855360" cy="77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68617"/>
            <p:cNvSpPr/>
            <p:nvPr/>
          </p:nvSpPr>
          <p:spPr>
            <a:xfrm>
              <a:off x="5763240" y="93384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68616"/>
            <p:cNvSpPr/>
            <p:nvPr/>
          </p:nvSpPr>
          <p:spPr>
            <a:xfrm flipV="1">
              <a:off x="4644360" y="1775160"/>
              <a:ext cx="0" cy="101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68615"/>
            <p:cNvSpPr/>
            <p:nvPr/>
          </p:nvSpPr>
          <p:spPr>
            <a:xfrm>
              <a:off x="3719520" y="36792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68614"/>
            <p:cNvSpPr/>
            <p:nvPr/>
          </p:nvSpPr>
          <p:spPr>
            <a:xfrm>
              <a:off x="3719520" y="278712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LTLL in ac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at St Joseph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Peak Hi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4932360" y="5373720"/>
            <a:ext cx="1512720" cy="792000"/>
          </a:xfrm>
          <a:custGeom>
            <a:avLst/>
            <a:gdLst>
              <a:gd name="textAreaLeft" fmla="*/ 51120 w 1512720"/>
              <a:gd name="textAreaRight" fmla="*/ 1461600 w 1512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41247" h="21600">
                <a:moveTo>
                  <a:pt x="0" y="0"/>
                </a:moveTo>
                <a:lnTo>
                  <a:pt x="41247" y="0"/>
                </a:lnTo>
                <a:lnTo>
                  <a:pt x="41247" y="21600"/>
                </a:lnTo>
                <a:lnTo>
                  <a:pt x="0" y="21600"/>
                </a:lnTo>
                <a:close/>
              </a:path>
              <a:path fill="lightenLess" w="41247" h="21600">
                <a:moveTo>
                  <a:pt x="0" y="0"/>
                </a:moveTo>
                <a:lnTo>
                  <a:pt x="41247" y="0"/>
                </a:lnTo>
                <a:lnTo>
                  <a:pt x="39847" y="1400"/>
                </a:lnTo>
                <a:lnTo>
                  <a:pt x="1400" y="1400"/>
                </a:lnTo>
                <a:close/>
              </a:path>
              <a:path fill="darken" w="41247" h="21600">
                <a:moveTo>
                  <a:pt x="41247" y="0"/>
                </a:moveTo>
                <a:lnTo>
                  <a:pt x="41247" y="21600"/>
                </a:lnTo>
                <a:lnTo>
                  <a:pt x="39847" y="20200"/>
                </a:lnTo>
                <a:lnTo>
                  <a:pt x="39847" y="1400"/>
                </a:lnTo>
                <a:close/>
              </a:path>
              <a:path fill="darkenLess" w="41247" h="21600">
                <a:moveTo>
                  <a:pt x="41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47" y="20200"/>
                </a:lnTo>
                <a:close/>
              </a:path>
              <a:path fill="lighten" w="41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omic Sans MS"/>
              </a:rPr>
              <a:t>Focus 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rganising f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ear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6732720" y="4292640"/>
            <a:ext cx="1368360" cy="792000"/>
          </a:xfrm>
          <a:custGeom>
            <a:avLst/>
            <a:gdLst>
              <a:gd name="textAreaLeft" fmla="*/ 51120 w 1368360"/>
              <a:gd name="textAreaRight" fmla="*/ 1317240 w 136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7312" h="21600">
                <a:moveTo>
                  <a:pt x="0" y="0"/>
                </a:moveTo>
                <a:lnTo>
                  <a:pt x="37312" y="0"/>
                </a:lnTo>
                <a:lnTo>
                  <a:pt x="37312" y="21600"/>
                </a:lnTo>
                <a:lnTo>
                  <a:pt x="0" y="21600"/>
                </a:lnTo>
                <a:close/>
              </a:path>
              <a:path fill="lightenLess" w="37312" h="21600">
                <a:moveTo>
                  <a:pt x="0" y="0"/>
                </a:moveTo>
                <a:lnTo>
                  <a:pt x="37312" y="0"/>
                </a:lnTo>
                <a:lnTo>
                  <a:pt x="35912" y="1400"/>
                </a:lnTo>
                <a:lnTo>
                  <a:pt x="1400" y="1400"/>
                </a:lnTo>
                <a:close/>
              </a:path>
              <a:path fill="darken" w="37312" h="21600">
                <a:moveTo>
                  <a:pt x="37312" y="0"/>
                </a:moveTo>
                <a:lnTo>
                  <a:pt x="37312" y="21600"/>
                </a:lnTo>
                <a:lnTo>
                  <a:pt x="35912" y="20200"/>
                </a:lnTo>
                <a:lnTo>
                  <a:pt x="35912" y="1400"/>
                </a:lnTo>
                <a:close/>
              </a:path>
              <a:path fill="darkenLess" w="37312" h="21600">
                <a:moveTo>
                  <a:pt x="37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2" y="20200"/>
                </a:lnTo>
                <a:close/>
              </a:path>
              <a:path fill="lighten" w="37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Focus 1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Transform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arn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2637000"/>
            <a:ext cx="1296720" cy="865080"/>
          </a:xfrm>
          <a:custGeom>
            <a:avLst/>
            <a:gdLst>
              <a:gd name="textAreaLeft" fmla="*/ 55800 w 1296720"/>
              <a:gd name="textAreaRight" fmla="*/ 1240920 w 12967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Focus 5: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ulture 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3851280" y="692280"/>
            <a:ext cx="1512720" cy="720720"/>
          </a:xfrm>
          <a:custGeom>
            <a:avLst/>
            <a:gdLst>
              <a:gd name="textAreaLeft" fmla="*/ 46440 w 1512720"/>
              <a:gd name="textAreaRight" fmla="*/ 1466280 w 1512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5324" h="21600">
                <a:moveTo>
                  <a:pt x="0" y="0"/>
                </a:moveTo>
                <a:lnTo>
                  <a:pt x="45324" y="0"/>
                </a:lnTo>
                <a:lnTo>
                  <a:pt x="45324" y="21600"/>
                </a:lnTo>
                <a:lnTo>
                  <a:pt x="0" y="21600"/>
                </a:lnTo>
                <a:close/>
              </a:path>
              <a:path fill="lightenLess" w="45324" h="21600">
                <a:moveTo>
                  <a:pt x="0" y="0"/>
                </a:moveTo>
                <a:lnTo>
                  <a:pt x="45324" y="0"/>
                </a:lnTo>
                <a:lnTo>
                  <a:pt x="43924" y="1400"/>
                </a:lnTo>
                <a:lnTo>
                  <a:pt x="1400" y="1400"/>
                </a:lnTo>
                <a:close/>
              </a:path>
              <a:path fill="darken" w="45324" h="21600">
                <a:moveTo>
                  <a:pt x="45324" y="0"/>
                </a:moveTo>
                <a:lnTo>
                  <a:pt x="45324" y="21600"/>
                </a:lnTo>
                <a:lnTo>
                  <a:pt x="43924" y="20200"/>
                </a:lnTo>
                <a:lnTo>
                  <a:pt x="43924" y="1400"/>
                </a:lnTo>
                <a:close/>
              </a:path>
              <a:path fill="darkenLess" w="45324" h="21600">
                <a:moveTo>
                  <a:pt x="45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24" y="20200"/>
                </a:lnTo>
                <a:close/>
              </a:path>
              <a:path fill="lighten" w="45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Focus 5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eadership based 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1197000"/>
            <a:ext cx="1368360" cy="790560"/>
          </a:xfrm>
          <a:custGeom>
            <a:avLst/>
            <a:gdLst>
              <a:gd name="textAreaLeft" fmla="*/ 51120 w 1368360"/>
              <a:gd name="textAreaRight" fmla="*/ 1317240 w 13683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37380" h="21600">
                <a:moveTo>
                  <a:pt x="0" y="0"/>
                </a:moveTo>
                <a:lnTo>
                  <a:pt x="37380" y="0"/>
                </a:lnTo>
                <a:lnTo>
                  <a:pt x="37380" y="21600"/>
                </a:lnTo>
                <a:lnTo>
                  <a:pt x="0" y="21600"/>
                </a:lnTo>
                <a:close/>
              </a:path>
              <a:path fill="lightenLess" w="37380" h="21600">
                <a:moveTo>
                  <a:pt x="0" y="0"/>
                </a:moveTo>
                <a:lnTo>
                  <a:pt x="37380" y="0"/>
                </a:lnTo>
                <a:lnTo>
                  <a:pt x="35980" y="1400"/>
                </a:lnTo>
                <a:lnTo>
                  <a:pt x="1400" y="1400"/>
                </a:lnTo>
                <a:close/>
              </a:path>
              <a:path fill="darken" w="37380" h="21600">
                <a:moveTo>
                  <a:pt x="37380" y="0"/>
                </a:moveTo>
                <a:lnTo>
                  <a:pt x="37380" y="21600"/>
                </a:lnTo>
                <a:lnTo>
                  <a:pt x="35980" y="20200"/>
                </a:lnTo>
                <a:lnTo>
                  <a:pt x="35980" y="1400"/>
                </a:lnTo>
                <a:close/>
              </a:path>
              <a:path fill="darkenLess" w="37380" h="21600">
                <a:moveTo>
                  <a:pt x="37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80" y="20200"/>
                </a:lnTo>
                <a:close/>
              </a:path>
              <a:path fill="lighten" w="37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Focus 3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cel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29264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lle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637000"/>
            <a:ext cx="1368720" cy="718920"/>
          </a:xfrm>
          <a:custGeom>
            <a:avLst/>
            <a:gdLst>
              <a:gd name="textAreaLeft" fmla="*/ 46440 w 1368720"/>
              <a:gd name="textAreaRight" fmla="*/ 1322280 w 1368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1114" h="21600">
                <a:moveTo>
                  <a:pt x="0" y="0"/>
                </a:moveTo>
                <a:lnTo>
                  <a:pt x="41114" y="0"/>
                </a:lnTo>
                <a:lnTo>
                  <a:pt x="41114" y="21600"/>
                </a:lnTo>
                <a:lnTo>
                  <a:pt x="0" y="21600"/>
                </a:lnTo>
                <a:close/>
              </a:path>
              <a:path fill="lightenLess" w="41114" h="21600">
                <a:moveTo>
                  <a:pt x="0" y="0"/>
                </a:moveTo>
                <a:lnTo>
                  <a:pt x="41114" y="0"/>
                </a:lnTo>
                <a:lnTo>
                  <a:pt x="39714" y="1400"/>
                </a:lnTo>
                <a:lnTo>
                  <a:pt x="1400" y="1400"/>
                </a:lnTo>
                <a:close/>
              </a:path>
              <a:path fill="darken" w="41114" h="21600">
                <a:moveTo>
                  <a:pt x="41114" y="0"/>
                </a:moveTo>
                <a:lnTo>
                  <a:pt x="41114" y="21600"/>
                </a:lnTo>
                <a:lnTo>
                  <a:pt x="39714" y="20200"/>
                </a:lnTo>
                <a:lnTo>
                  <a:pt x="39714" y="1400"/>
                </a:lnTo>
                <a:close/>
              </a:path>
              <a:path fill="darkenLess" w="41114" h="21600">
                <a:moveTo>
                  <a:pt x="41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14" y="20200"/>
                </a:lnTo>
                <a:close/>
              </a:path>
              <a:path fill="lighten" w="41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Lear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1268280"/>
            <a:ext cx="1368720" cy="720720"/>
          </a:xfrm>
          <a:custGeom>
            <a:avLst/>
            <a:gdLst>
              <a:gd name="textAreaLeft" fmla="*/ 46440 w 1368720"/>
              <a:gd name="textAreaRight" fmla="*/ 1322280 w 136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1011" h="21600">
                <a:moveTo>
                  <a:pt x="0" y="0"/>
                </a:moveTo>
                <a:lnTo>
                  <a:pt x="41011" y="0"/>
                </a:lnTo>
                <a:lnTo>
                  <a:pt x="41011" y="21600"/>
                </a:lnTo>
                <a:lnTo>
                  <a:pt x="0" y="21600"/>
                </a:lnTo>
                <a:close/>
              </a:path>
              <a:path fill="lightenLess" w="41011" h="21600">
                <a:moveTo>
                  <a:pt x="0" y="0"/>
                </a:moveTo>
                <a:lnTo>
                  <a:pt x="41011" y="0"/>
                </a:lnTo>
                <a:lnTo>
                  <a:pt x="39611" y="1400"/>
                </a:lnTo>
                <a:lnTo>
                  <a:pt x="1400" y="1400"/>
                </a:lnTo>
                <a:close/>
              </a:path>
              <a:path fill="darken" w="41011" h="21600">
                <a:moveTo>
                  <a:pt x="41011" y="0"/>
                </a:moveTo>
                <a:lnTo>
                  <a:pt x="41011" y="21600"/>
                </a:lnTo>
                <a:lnTo>
                  <a:pt x="39611" y="20200"/>
                </a:lnTo>
                <a:lnTo>
                  <a:pt x="39611" y="1400"/>
                </a:lnTo>
                <a:close/>
              </a:path>
              <a:path fill="darkenLess" w="41011" h="21600">
                <a:moveTo>
                  <a:pt x="41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1" y="20200"/>
                </a:lnTo>
                <a:close/>
              </a:path>
              <a:path fill="lighten" w="41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5445000"/>
            <a:ext cx="1296720" cy="648000"/>
          </a:xfrm>
          <a:custGeom>
            <a:avLst/>
            <a:gdLst>
              <a:gd name="textAreaLeft" fmla="*/ 41760 w 1296720"/>
              <a:gd name="textAreaRight" fmla="*/ 1254960 w 129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43212" h="21600">
                <a:moveTo>
                  <a:pt x="0" y="0"/>
                </a:moveTo>
                <a:lnTo>
                  <a:pt x="43212" y="0"/>
                </a:lnTo>
                <a:lnTo>
                  <a:pt x="43212" y="21600"/>
                </a:lnTo>
                <a:lnTo>
                  <a:pt x="0" y="21600"/>
                </a:lnTo>
                <a:close/>
              </a:path>
              <a:path fill="lightenLess" w="43212" h="21600">
                <a:moveTo>
                  <a:pt x="0" y="0"/>
                </a:moveTo>
                <a:lnTo>
                  <a:pt x="43212" y="0"/>
                </a:lnTo>
                <a:lnTo>
                  <a:pt x="41812" y="1400"/>
                </a:lnTo>
                <a:lnTo>
                  <a:pt x="1400" y="1400"/>
                </a:lnTo>
                <a:close/>
              </a:path>
              <a:path fill="darken" w="43212" h="21600">
                <a:moveTo>
                  <a:pt x="43212" y="0"/>
                </a:moveTo>
                <a:lnTo>
                  <a:pt x="43212" y="21600"/>
                </a:lnTo>
                <a:lnTo>
                  <a:pt x="41812" y="20200"/>
                </a:lnTo>
                <a:lnTo>
                  <a:pt x="41812" y="1400"/>
                </a:lnTo>
                <a:close/>
              </a:path>
              <a:path fill="darkenLess" w="43212" h="21600">
                <a:moveTo>
                  <a:pt x="43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2" y="20200"/>
                </a:lnTo>
                <a:close/>
              </a:path>
              <a:path fill="lighten" w="43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cus 5: Educative Leader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eadership based on evid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s procedures for the routine collection of relevant evid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s procedures for interpreting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ts on the basis of feedback on perform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900000" y="5877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1835280" y="587700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028000" y="5877000"/>
            <a:ext cx="865080" cy="79200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92" h="21600">
                <a:moveTo>
                  <a:pt x="0" y="0"/>
                </a:moveTo>
                <a:lnTo>
                  <a:pt x="23592" y="0"/>
                </a:lnTo>
                <a:lnTo>
                  <a:pt x="23592" y="21600"/>
                </a:lnTo>
                <a:lnTo>
                  <a:pt x="0" y="21600"/>
                </a:lnTo>
                <a:close/>
              </a:path>
              <a:path fill="lightenLess" w="23592" h="21600">
                <a:moveTo>
                  <a:pt x="0" y="0"/>
                </a:moveTo>
                <a:lnTo>
                  <a:pt x="23592" y="0"/>
                </a:lnTo>
                <a:lnTo>
                  <a:pt x="22192" y="1400"/>
                </a:lnTo>
                <a:lnTo>
                  <a:pt x="1400" y="1400"/>
                </a:lnTo>
                <a:close/>
              </a:path>
              <a:path fill="darken" w="23592" h="21600">
                <a:moveTo>
                  <a:pt x="23592" y="0"/>
                </a:moveTo>
                <a:lnTo>
                  <a:pt x="23592" y="21600"/>
                </a:lnTo>
                <a:lnTo>
                  <a:pt x="22192" y="20200"/>
                </a:lnTo>
                <a:lnTo>
                  <a:pt x="22192" y="1400"/>
                </a:lnTo>
                <a:close/>
              </a:path>
              <a:path fill="darkenLess" w="23592" h="21600">
                <a:moveTo>
                  <a:pt x="23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2" y="20200"/>
                </a:lnTo>
                <a:close/>
              </a:path>
              <a:path fill="lighten" w="23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2" h="21600">
                <a:moveTo>
                  <a:pt x="11796" y="3837"/>
                </a:moveTo>
                <a:lnTo>
                  <a:pt x="14372" y="6448"/>
                </a:lnTo>
                <a:lnTo>
                  <a:pt x="14372" y="4707"/>
                </a:lnTo>
                <a:lnTo>
                  <a:pt x="16148" y="4707"/>
                </a:lnTo>
                <a:lnTo>
                  <a:pt x="16148" y="8224"/>
                </a:lnTo>
                <a:lnTo>
                  <a:pt x="18759" y="10800"/>
                </a:lnTo>
                <a:lnTo>
                  <a:pt x="17105" y="10800"/>
                </a:lnTo>
                <a:lnTo>
                  <a:pt x="17105" y="17989"/>
                </a:lnTo>
                <a:lnTo>
                  <a:pt x="6487" y="17989"/>
                </a:lnTo>
                <a:lnTo>
                  <a:pt x="6487" y="10800"/>
                </a:lnTo>
                <a:lnTo>
                  <a:pt x="4833" y="10800"/>
                </a:lnTo>
                <a:close/>
              </a:path>
              <a:path fill="darkenLess" w="23592" h="21600">
                <a:moveTo>
                  <a:pt x="14372" y="6448"/>
                </a:moveTo>
                <a:lnTo>
                  <a:pt x="14372" y="4707"/>
                </a:lnTo>
                <a:lnTo>
                  <a:pt x="16148" y="4707"/>
                </a:lnTo>
                <a:lnTo>
                  <a:pt x="16148" y="8224"/>
                </a:lnTo>
                <a:close/>
              </a:path>
              <a:path fill="darkenLess" w="23592" h="21600">
                <a:moveTo>
                  <a:pt x="10874" y="14299"/>
                </a:moveTo>
                <a:lnTo>
                  <a:pt x="12719" y="14299"/>
                </a:lnTo>
                <a:lnTo>
                  <a:pt x="12719" y="17989"/>
                </a:lnTo>
                <a:lnTo>
                  <a:pt x="17105" y="17989"/>
                </a:lnTo>
                <a:lnTo>
                  <a:pt x="17105" y="10800"/>
                </a:lnTo>
                <a:lnTo>
                  <a:pt x="6487" y="10800"/>
                </a:lnTo>
                <a:lnTo>
                  <a:pt x="6487" y="17989"/>
                </a:lnTo>
                <a:lnTo>
                  <a:pt x="10874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885080" y="1700280"/>
            <a:ext cx="936720" cy="2275560"/>
            <a:chOff x="7885080" y="1700280"/>
            <a:chExt cx="936720" cy="2275560"/>
          </a:xfrm>
        </p:grpSpPr>
        <p:grpSp>
          <p:nvGrpSpPr>
            <p:cNvPr id="123" name=""/>
            <p:cNvGrpSpPr/>
            <p:nvPr/>
          </p:nvGrpSpPr>
          <p:grpSpPr>
            <a:xfrm>
              <a:off x="7885080" y="1744560"/>
              <a:ext cx="936720" cy="2231280"/>
              <a:chOff x="7885080" y="1744560"/>
              <a:chExt cx="936720" cy="2231280"/>
            </a:xfrm>
          </p:grpSpPr>
          <p:sp>
            <p:nvSpPr>
              <p:cNvPr id="124" name=""/>
              <p:cNvSpPr/>
              <p:nvPr/>
            </p:nvSpPr>
            <p:spPr>
              <a:xfrm>
                <a:off x="7885080" y="1744560"/>
                <a:ext cx="936720" cy="1728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16720" y="3472920"/>
                <a:ext cx="73080" cy="502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73800" y="1959840"/>
                <a:ext cx="360360" cy="3585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73800" y="2464920"/>
                <a:ext cx="360360" cy="35820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73800" y="2968200"/>
                <a:ext cx="360360" cy="35820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956720" y="1700280"/>
              <a:ext cx="792000" cy="79200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72720" y="1915920"/>
              <a:ext cx="360360" cy="360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ta is stored in classroom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sessments to be analy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956720" y="5950080"/>
            <a:ext cx="936360" cy="7189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30" h="21600">
                <a:moveTo>
                  <a:pt x="0" y="0"/>
                </a:moveTo>
                <a:lnTo>
                  <a:pt x="28130" y="0"/>
                </a:lnTo>
                <a:lnTo>
                  <a:pt x="28130" y="21600"/>
                </a:lnTo>
                <a:lnTo>
                  <a:pt x="0" y="21600"/>
                </a:lnTo>
                <a:close/>
              </a:path>
              <a:path fill="lightenLess" w="28130" h="21600">
                <a:moveTo>
                  <a:pt x="0" y="0"/>
                </a:moveTo>
                <a:lnTo>
                  <a:pt x="28130" y="0"/>
                </a:lnTo>
                <a:lnTo>
                  <a:pt x="26730" y="1400"/>
                </a:lnTo>
                <a:lnTo>
                  <a:pt x="1400" y="1400"/>
                </a:lnTo>
                <a:close/>
              </a:path>
              <a:path fill="darken" w="28130" h="21600">
                <a:moveTo>
                  <a:pt x="28130" y="0"/>
                </a:moveTo>
                <a:lnTo>
                  <a:pt x="28130" y="21600"/>
                </a:lnTo>
                <a:lnTo>
                  <a:pt x="26730" y="20200"/>
                </a:lnTo>
                <a:lnTo>
                  <a:pt x="26730" y="1400"/>
                </a:lnTo>
                <a:close/>
              </a:path>
              <a:path fill="darkenLess" w="28130" h="21600">
                <a:moveTo>
                  <a:pt x="28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30" y="20200"/>
                </a:lnTo>
                <a:close/>
              </a:path>
              <a:path fill="lighten" w="28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30" h="21600">
                <a:moveTo>
                  <a:pt x="7058" y="10800"/>
                </a:moveTo>
                <a:lnTo>
                  <a:pt x="21071" y="3794"/>
                </a:lnTo>
                <a:lnTo>
                  <a:pt x="2107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yr growth in NAPL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ndardised testing as evidence of grow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king grow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alyse data and target students for 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le school approach to data analy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ST is devising a system for data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812000" y="580536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6731" y="10800"/>
                </a:moveTo>
                <a:lnTo>
                  <a:pt x="20744" y="3794"/>
                </a:lnTo>
                <a:lnTo>
                  <a:pt x="2074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cus 3: Val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Excel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ares an explicit view of what constitutes good teaching and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s high expectations of students and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877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8000" y="5877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667640" y="580536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2988" y="3837"/>
                </a:moveTo>
                <a:lnTo>
                  <a:pt x="15564" y="6448"/>
                </a:ln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lnTo>
                  <a:pt x="19951" y="10800"/>
                </a:lnTo>
                <a:lnTo>
                  <a:pt x="18297" y="10800"/>
                </a:lnTo>
                <a:lnTo>
                  <a:pt x="18297" y="17989"/>
                </a:lnTo>
                <a:lnTo>
                  <a:pt x="7679" y="17989"/>
                </a:lnTo>
                <a:lnTo>
                  <a:pt x="7679" y="10800"/>
                </a:lnTo>
                <a:lnTo>
                  <a:pt x="6025" y="10800"/>
                </a:lnTo>
                <a:close/>
              </a:path>
              <a:path fill="darkenLess" w="25976" h="21600">
                <a:moveTo>
                  <a:pt x="15564" y="6448"/>
                </a:move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close/>
              </a:path>
              <a:path fill="darkenLess" w="25976" h="21600">
                <a:moveTo>
                  <a:pt x="12066" y="14299"/>
                </a:moveTo>
                <a:lnTo>
                  <a:pt x="13911" y="14299"/>
                </a:lnTo>
                <a:lnTo>
                  <a:pt x="13911" y="17989"/>
                </a:lnTo>
                <a:lnTo>
                  <a:pt x="18297" y="17989"/>
                </a:lnTo>
                <a:lnTo>
                  <a:pt x="18297" y="10800"/>
                </a:lnTo>
                <a:lnTo>
                  <a:pt x="7679" y="10800"/>
                </a:lnTo>
                <a:lnTo>
                  <a:pt x="7679" y="17989"/>
                </a:lnTo>
                <a:lnTo>
                  <a:pt x="12066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028000" y="1268280"/>
            <a:ext cx="936720" cy="2232000"/>
            <a:chOff x="8028000" y="1268280"/>
            <a:chExt cx="936720" cy="2232000"/>
          </a:xfrm>
        </p:grpSpPr>
        <p:grpSp>
          <p:nvGrpSpPr>
            <p:cNvPr id="143" name=""/>
            <p:cNvGrpSpPr/>
            <p:nvPr/>
          </p:nvGrpSpPr>
          <p:grpSpPr>
            <a:xfrm>
              <a:off x="8028000" y="1268280"/>
              <a:ext cx="936720" cy="2232000"/>
              <a:chOff x="8028000" y="1268280"/>
              <a:chExt cx="936720" cy="2232000"/>
            </a:xfrm>
          </p:grpSpPr>
          <p:sp>
            <p:nvSpPr>
              <p:cNvPr id="144" name=""/>
              <p:cNvSpPr/>
              <p:nvPr/>
            </p:nvSpPr>
            <p:spPr>
              <a:xfrm>
                <a:off x="8028000" y="1268280"/>
                <a:ext cx="936720" cy="172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59640" y="2997000"/>
                <a:ext cx="73080" cy="503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316720" y="1483920"/>
                <a:ext cx="360360" cy="3589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16720" y="1989000"/>
                <a:ext cx="360360" cy="35856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316720" y="2492280"/>
                <a:ext cx="360360" cy="35856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8172360" y="1844640"/>
              <a:ext cx="647640" cy="649440"/>
            </a:xfrm>
            <a:prstGeom prst="irregularSeal1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17080" y="1989000"/>
              <a:ext cx="358560" cy="36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osure to current teaching and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ise the bar of expec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exible teaching sty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885080" y="573408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olly Phonics PD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steps refres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Steps scope and sequ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Steps fol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Steps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idence of First Steps in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inuity across literacy from K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573408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23:12:48Z</dcterms:created>
  <dc:creator>Dean Colmer</dc:creator>
  <dc:description/>
  <dc:language>en-US</dc:language>
  <cp:lastModifiedBy>Dean Colmer</cp:lastModifiedBy>
  <dcterms:modified xsi:type="dcterms:W3CDTF">2010-05-20T00:34:41Z</dcterms:modified>
  <cp:revision>14</cp:revision>
  <dc:subject/>
  <dc:title>St Joseph’s Primary School Peak Hill</dc:title>
</cp:coreProperties>
</file>